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1170936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47640" y="6180840"/>
            <a:ext cx="1170936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647640" y="129960"/>
            <a:ext cx="11709360" cy="99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47640" y="618084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647760" y="618084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647640" y="6180840"/>
            <a:ext cx="1170936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1170936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647640" y="6180840"/>
            <a:ext cx="1170936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47640" y="618084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6647760" y="618084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06920" y="227340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8565840" y="227340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647640" y="618084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4606920" y="618084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8565840" y="618084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47640" y="618084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6647760" y="618084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647640" y="2273400"/>
            <a:ext cx="11709360" cy="74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1170936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647640" y="129960"/>
            <a:ext cx="11709360" cy="99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47640" y="618084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647760" y="618084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47640" y="6180840"/>
            <a:ext cx="1170936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1170936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647640" y="6180840"/>
            <a:ext cx="1170936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47640" y="618084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6647760" y="618084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06920" y="227340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565840" y="227340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47640" y="618084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4606920" y="618084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8565840" y="618084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06920" y="227340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8565840" y="227340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647640" y="618084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4606920" y="618084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8565840" y="618084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647640" y="2273400"/>
            <a:ext cx="11709360" cy="74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1170936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ubTitle"/>
          </p:nvPr>
        </p:nvSpPr>
        <p:spPr>
          <a:xfrm>
            <a:off x="647640" y="129960"/>
            <a:ext cx="11709360" cy="99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647640" y="618084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6647760" y="618084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47640" y="6180840"/>
            <a:ext cx="1170936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C2074C-C83B-4C08-B7F1-47C69A5D022A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1170936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647640" y="6180840"/>
            <a:ext cx="1170936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647640" y="618084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6647760" y="618084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06920" y="227340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8565840" y="227340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647640" y="618084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6"/>
          <p:cNvSpPr>
            <a:spLocks noGrp="1"/>
          </p:cNvSpPr>
          <p:nvPr>
            <p:ph/>
          </p:nvPr>
        </p:nvSpPr>
        <p:spPr>
          <a:xfrm>
            <a:off x="4606920" y="618084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7"/>
          <p:cNvSpPr>
            <a:spLocks noGrp="1"/>
          </p:cNvSpPr>
          <p:nvPr>
            <p:ph/>
          </p:nvPr>
        </p:nvSpPr>
        <p:spPr>
          <a:xfrm>
            <a:off x="8565840" y="618084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647640" y="2273400"/>
            <a:ext cx="11709360" cy="74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1170936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647640" y="129960"/>
            <a:ext cx="11709360" cy="99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47640" y="618084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647640" y="2273400"/>
            <a:ext cx="11709360" cy="74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6655D4-4804-495A-97A7-97B1D6D5221D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647760" y="618084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647640" y="6180840"/>
            <a:ext cx="1170936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1170936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647640" y="6180840"/>
            <a:ext cx="1170936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647640" y="618084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6647760" y="618084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06920" y="227340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8565840" y="227340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647640" y="618084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4606920" y="618084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8565840" y="618084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1170936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B6A635-6FCC-46D1-97E0-32C1D142769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71AC2B-7608-4B3E-A856-790167F7D19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50982C-D0C1-4FA5-A349-CE149521174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647640" y="129960"/>
            <a:ext cx="11709360" cy="99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6596F1-000D-4CC2-9301-32D3067255D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47640" y="618084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51164D-B804-4A5F-9CE8-3EE7D20D4DB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647640" y="2273400"/>
            <a:ext cx="11709360" cy="74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647760" y="618084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C2E20A-0D9C-414B-AED4-A7EEF55D68E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47640" y="6180840"/>
            <a:ext cx="1170936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BC9366-9C02-497F-86CA-E85AD854EB5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1170936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47640" y="6180840"/>
            <a:ext cx="1170936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6C88A-F57C-4807-B1F0-FB62D85D5DA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47640" y="618084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6647760" y="618084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5E25C1-80C6-4073-94ED-D44BFEFF3CE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06920" y="227340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565840" y="227340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647640" y="618084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4606920" y="618084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8565840" y="618084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51FE21-A782-451F-857A-78C3A0A70FE3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6AE91C-FFF2-4312-8432-F600A0A5D9F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647640" y="2273400"/>
            <a:ext cx="11709360" cy="74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8DB20C-360E-4627-8F69-D66BAD75948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1170936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C89A13-A5F3-4ED6-AD06-20C68E971ED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683FAA-83FA-4B34-8F24-8EBB7F001A5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5DF50C-3998-4A5F-972B-2D4EFD9211C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1170936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647640" y="129960"/>
            <a:ext cx="11709360" cy="99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3017A1-DA3F-43C7-9BD3-C5B5F993894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47640" y="618084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7BA267-1DB5-4AE9-8211-D9C78DDC3F9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647760" y="618084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EBD3CC-DE9B-4EAA-963F-20C76A572E7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47640" y="6180840"/>
            <a:ext cx="1170936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C155C2-4356-4754-B1D1-404FACB8F5C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1170936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647640" y="6180840"/>
            <a:ext cx="1170936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F06D27-0855-490E-8EBC-BE8AE7A6CCE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47640" y="618084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647760" y="618084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4D16B7-8479-418B-A15E-B948E81E8F6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06920" y="227340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8565840" y="227340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647640" y="618084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606920" y="618084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8565840" y="618084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D1F2CA-726F-407D-90C5-A166C96F8185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647640" y="2273400"/>
            <a:ext cx="11709360" cy="74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1170936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647640" y="129960"/>
            <a:ext cx="11709360" cy="99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47640" y="618084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647760" y="618084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47640" y="6180840"/>
            <a:ext cx="1170936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1170936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47640" y="6180840"/>
            <a:ext cx="1170936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47640" y="618084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6647760" y="618084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06920" y="227340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8565840" y="227340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47640" y="618084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4606920" y="618084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8565840" y="618084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647640" y="2273400"/>
            <a:ext cx="11709360" cy="74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1170936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647640" y="129960"/>
            <a:ext cx="11709360" cy="99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47640" y="618084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647760" y="618084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47640" y="6180840"/>
            <a:ext cx="1170936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1170936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647640" y="6180840"/>
            <a:ext cx="1170936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47640" y="618084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6647760" y="618084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647640" y="129960"/>
            <a:ext cx="11709360" cy="99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06920" y="227340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8565840" y="227340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647640" y="618084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6"/>
          <p:cNvSpPr>
            <a:spLocks noGrp="1"/>
          </p:cNvSpPr>
          <p:nvPr>
            <p:ph/>
          </p:nvPr>
        </p:nvSpPr>
        <p:spPr>
          <a:xfrm>
            <a:off x="4606920" y="618084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7"/>
          <p:cNvSpPr>
            <a:spLocks noGrp="1"/>
          </p:cNvSpPr>
          <p:nvPr>
            <p:ph/>
          </p:nvPr>
        </p:nvSpPr>
        <p:spPr>
          <a:xfrm>
            <a:off x="8565840" y="618084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647640" y="2273400"/>
            <a:ext cx="11709360" cy="74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1170936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647640" y="129960"/>
            <a:ext cx="11709360" cy="99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47640" y="618084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647760" y="618084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47640" y="6180840"/>
            <a:ext cx="1170936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647640" y="618084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1170936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647640" y="6180840"/>
            <a:ext cx="1170936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47640" y="618084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647760" y="618084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06920" y="227340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8565840" y="227340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647640" y="618084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4606920" y="618084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8565840" y="618084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647640" y="2273400"/>
            <a:ext cx="11709360" cy="74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1170936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647640" y="129960"/>
            <a:ext cx="11709360" cy="99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47640" y="618084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647760" y="618084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647760" y="618084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47640" y="6180840"/>
            <a:ext cx="1170936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1170936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647640" y="6180840"/>
            <a:ext cx="1170936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47640" y="618084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6647760" y="618084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06920" y="227340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8565840" y="227340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647640" y="618084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4606920" y="618084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8565840" y="618084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647640" y="2273400"/>
            <a:ext cx="11709360" cy="74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1170936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47640" y="6180840"/>
            <a:ext cx="1170936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647640" y="129960"/>
            <a:ext cx="11709360" cy="99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47640" y="618084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647760" y="618084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47640" y="6180840"/>
            <a:ext cx="1170936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1170936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647640" y="6180840"/>
            <a:ext cx="1170936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47640" y="618084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6647760" y="618084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06920" y="227340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8565840" y="227340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647640" y="618084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4606920" y="618084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8565840" y="618084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647640" y="2273400"/>
            <a:ext cx="11709360" cy="74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1170936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6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algn="ctr"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algn="ctr">
              <a:buClr>
                <a:srgbClr val="000000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body"/>
          </p:nvPr>
        </p:nvSpPr>
        <p:spPr>
          <a:xfrm>
            <a:off x="647640" y="2273400"/>
            <a:ext cx="1170936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marL="3826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11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11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11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 type="sldNum" idx="1"/>
          </p:nvPr>
        </p:nvSpPr>
        <p:spPr>
          <a:xfrm>
            <a:off x="10666440" y="8881920"/>
            <a:ext cx="33984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3F99D-ECDF-43F3-A573-659E706C74A1}" type="slidenum"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47640" y="2273400"/>
            <a:ext cx="1170936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marL="3826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11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11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11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sldNum" idx="2"/>
          </p:nvPr>
        </p:nvSpPr>
        <p:spPr>
          <a:xfrm>
            <a:off x="10651680" y="8881920"/>
            <a:ext cx="36828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99240-5A75-4FC2-8D13-F4C16A221CDC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2044800" y="2416680"/>
            <a:ext cx="9777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Line 2"/>
          <p:cNvSpPr/>
          <p:nvPr/>
        </p:nvSpPr>
        <p:spPr>
          <a:xfrm>
            <a:off x="5867280" y="4241880"/>
            <a:ext cx="1270080" cy="12700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3"/>
          <p:cNvSpPr/>
          <p:nvPr/>
        </p:nvSpPr>
        <p:spPr>
          <a:xfrm>
            <a:off x="8001000" y="1523880"/>
            <a:ext cx="1270080" cy="1270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5188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6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9000"/>
          </a:bodyPr>
          <a:p>
            <a:pPr marL="519840" indent="-282240">
              <a:spcBef>
                <a:spcPts val="24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5480" indent="-282240">
              <a:spcBef>
                <a:spcPts val="24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10760" indent="-282240">
              <a:spcBef>
                <a:spcPts val="2401"/>
              </a:spcBef>
              <a:buClr>
                <a:srgbClr val="000000"/>
              </a:buClr>
              <a:buSzPct val="75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  <a:p>
            <a:pPr lvl="3" marL="1932840" indent="-508680">
              <a:spcBef>
                <a:spcPts val="2401"/>
              </a:spcBef>
              <a:buClr>
                <a:srgbClr val="000000"/>
              </a:buClr>
              <a:buSzPct val="171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  <a:p>
            <a:pPr lvl="4" marL="2328120" indent="-508320">
              <a:spcBef>
                <a:spcPts val="2401"/>
              </a:spcBef>
              <a:buClr>
                <a:srgbClr val="000000"/>
              </a:buClr>
              <a:buSzPct val="171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  <a:p>
            <a:pPr lvl="5" marL="2328120" indent="-508320">
              <a:spcBef>
                <a:spcPts val="2401"/>
              </a:spcBef>
              <a:buClr>
                <a:srgbClr val="000000"/>
              </a:buClr>
              <a:buSzPct val="171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  <a:p>
            <a:pPr lvl="6" marL="2328120" indent="-508320">
              <a:spcBef>
                <a:spcPts val="2401"/>
              </a:spcBef>
              <a:buClr>
                <a:srgbClr val="000000"/>
              </a:buClr>
              <a:buSzPct val="171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1"/>
          <p:cNvSpPr/>
          <p:nvPr/>
        </p:nvSpPr>
        <p:spPr>
          <a:xfrm>
            <a:off x="482760" y="2514600"/>
            <a:ext cx="13004640" cy="28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 know the parameter value, θ =.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 make three draws.  What is the probability of all of the possible outcomes of the experi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Rectangle 1"/>
          <p:cNvSpPr/>
          <p:nvPr/>
        </p:nvSpPr>
        <p:spPr>
          <a:xfrm>
            <a:off x="279360" y="3886200"/>
            <a:ext cx="130050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w the data are constant.  We make three draws, 2 whites and 1 blac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s the probability of the data conditional on each hypothesis (read, θ, model, parameter value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66320" tIns="50760" bIns="50760" anchor="ctr">
            <a:noAutofit/>
          </a:bodyPr>
          <a:p>
            <a:pPr marL="5724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Likelihood: 2 whites on 3 dra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Picture 2" descr=""/>
          <p:cNvPicPr/>
          <p:nvPr/>
        </p:nvPicPr>
        <p:blipFill>
          <a:blip r:embed="rId1"/>
          <a:stretch/>
        </p:blipFill>
        <p:spPr>
          <a:xfrm>
            <a:off x="3073320" y="2895480"/>
            <a:ext cx="6489720" cy="395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774720" y="990360"/>
            <a:ext cx="11049120" cy="7048440"/>
          </a:xfrm>
          <a:prstGeom prst="rect">
            <a:avLst/>
          </a:prstGeom>
          <a:noFill/>
          <a:ln w="0">
            <a:noFill/>
          </a:ln>
        </p:spPr>
        <p:txBody>
          <a:bodyPr lIns="50760" rIns="166320" tIns="50760" bIns="50760" anchor="ctr">
            <a:noAutofit/>
          </a:bodyPr>
          <a:p>
            <a:pPr marL="572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alculate the probability of the data (2 whites on 3 draws) conditional on each of the models (hypotheses).  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lot the probability of the data conditional on (as a function of 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= 0…1 (all possible hypotheses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1"/>
          <p:cNvSpPr/>
          <p:nvPr/>
        </p:nvSpPr>
        <p:spPr>
          <a:xfrm>
            <a:off x="500040" y="330120"/>
            <a:ext cx="8354520" cy="84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57960" tIns="0" bIns="0" anchor="t">
            <a:spAutoFit/>
          </a:bodyPr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Courier New"/>
              </a:rPr>
              <a:t>rm(list=ls(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Courier New"/>
              </a:rPr>
              <a:t>p=seq(0,1,.0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#number of whi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Courier New"/>
              </a:rPr>
              <a:t>w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#number of dra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Courier New"/>
              </a:rPr>
              <a:t>n=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Courier New"/>
              </a:rPr>
              <a:t>y=dbinom(x=w, size=n, prob=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Courier New"/>
              </a:rPr>
              <a:t>plot(p,y,typ="l", lwd=2, col="blue",main="2 white on 3 draws"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Courier New"/>
              </a:rPr>
              <a:t>p1=5/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Courier New"/>
              </a:rPr>
              <a:t>Ltheta1=dbinom(x=w, size=n, prob=p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&gt;Ltheta1[1] 0.347222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Courier New"/>
              </a:rPr>
              <a:t>p2=1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Courier New"/>
              </a:rPr>
              <a:t>Ltheta2=dbinom(x=w, size=n, prob=p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&gt;Ltheta2[1] 0.37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Courier New"/>
              </a:rPr>
              <a:t>p3=1/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Courier New"/>
              </a:rPr>
              <a:t>Ltheta3=dbinom(x=w, size=n, prob=p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&gt;Ltheta3[1] 0.069444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4" name="Picture 1" descr=""/>
          <p:cNvPicPr/>
          <p:nvPr/>
        </p:nvPicPr>
        <p:blipFill>
          <a:blip r:embed="rId1"/>
          <a:stretch/>
        </p:blipFill>
        <p:spPr>
          <a:xfrm>
            <a:off x="1871640" y="0"/>
            <a:ext cx="9634680" cy="9067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977760" y="393840"/>
            <a:ext cx="11049120" cy="7873920"/>
          </a:xfrm>
          <a:prstGeom prst="rect">
            <a:avLst/>
          </a:prstGeom>
          <a:noFill/>
          <a:ln w="0">
            <a:noFill/>
          </a:ln>
        </p:spPr>
        <p:txBody>
          <a:bodyPr lIns="50760" rIns="166320" tIns="50760" bIns="50760" anchor="ctr">
            <a:noAutofit/>
          </a:bodyPr>
          <a:p>
            <a:pPr marL="57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e draw 10 beans.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alculate the probability of the data (total = 4 whites on 10 draws) conditional on each of the 3 hypotheses.  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lot the probability of the data conditional on </a:t>
            </a:r>
            <a:r>
              <a:rPr b="0" lang="el-GR" sz="3600" spc="-1" strike="noStrike">
                <a:solidFill>
                  <a:srgbClr val="000000"/>
                </a:solidFill>
                <a:latin typeface="Arial"/>
                <a:ea typeface="Arial"/>
              </a:rPr>
              <a:t>θ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s a function of </a:t>
            </a:r>
            <a:r>
              <a:rPr b="0" lang="el-GR" sz="3600" spc="-1" strike="noStrike">
                <a:solidFill>
                  <a:srgbClr val="000000"/>
                </a:solidFill>
                <a:latin typeface="Arial"/>
              </a:rPr>
              <a:t>θ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= 0…1 (all possible hypotheses)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6" name="Picture 1" descr=""/>
          <p:cNvPicPr/>
          <p:nvPr/>
        </p:nvPicPr>
        <p:blipFill>
          <a:blip r:embed="rId1"/>
          <a:stretch/>
        </p:blipFill>
        <p:spPr>
          <a:xfrm>
            <a:off x="1486080" y="-152280"/>
            <a:ext cx="10023120" cy="9434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1"/>
          <p:cNvSpPr/>
          <p:nvPr/>
        </p:nvSpPr>
        <p:spPr>
          <a:xfrm>
            <a:off x="3251160" y="247680"/>
            <a:ext cx="858528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t">
            <a:normAutofit/>
          </a:bodyPr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ヒラギノ明朝 ProN W3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Rectangle 2"/>
          <p:cNvSpPr/>
          <p:nvPr/>
        </p:nvSpPr>
        <p:spPr>
          <a:xfrm>
            <a:off x="590400" y="1371600"/>
            <a:ext cx="8609040" cy="731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57960" tIns="0" bIns="0" anchor="t">
            <a:spAutoFit/>
          </a:bodyPr>
          <a:p>
            <a:pPr marL="57240">
              <a:lnSpc>
                <a:spcPct val="100000"/>
              </a:lnSpc>
              <a:tabLst>
                <a:tab algn="l" pos="0"/>
                <a:tab algn="l" pos="507960"/>
                <a:tab algn="l" pos="1015920"/>
                <a:tab algn="l" pos="1511280"/>
                <a:tab algn="l" pos="2019240"/>
                <a:tab algn="l" pos="2527200"/>
                <a:tab algn="l" pos="3035160"/>
                <a:tab algn="l" pos="3543480"/>
                <a:tab algn="l" pos="4051440"/>
                <a:tab algn="l" pos="4546440"/>
                <a:tab algn="l" pos="5054760"/>
                <a:tab algn="l" pos="5562720"/>
                <a:tab algn="l" pos="6070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Courier New"/>
              </a:rPr>
              <a:t>rm(list=ls(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40">
              <a:lnSpc>
                <a:spcPct val="100000"/>
              </a:lnSpc>
              <a:tabLst>
                <a:tab algn="l" pos="0"/>
                <a:tab algn="l" pos="507960"/>
                <a:tab algn="l" pos="1015920"/>
                <a:tab algn="l" pos="1511280"/>
                <a:tab algn="l" pos="2019240"/>
                <a:tab algn="l" pos="2527200"/>
                <a:tab algn="l" pos="3035160"/>
                <a:tab algn="l" pos="3543480"/>
                <a:tab algn="l" pos="4051440"/>
                <a:tab algn="l" pos="4546440"/>
                <a:tab algn="l" pos="5054760"/>
                <a:tab algn="l" pos="5562720"/>
                <a:tab algn="l" pos="6070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Courier New"/>
              </a:rPr>
              <a:t>p=seq(0,1,.0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40">
              <a:lnSpc>
                <a:spcPct val="100000"/>
              </a:lnSpc>
              <a:tabLst>
                <a:tab algn="l" pos="0"/>
                <a:tab algn="l" pos="507960"/>
                <a:tab algn="l" pos="1015920"/>
                <a:tab algn="l" pos="1511280"/>
                <a:tab algn="l" pos="2019240"/>
                <a:tab algn="l" pos="2527200"/>
                <a:tab algn="l" pos="3035160"/>
                <a:tab algn="l" pos="3543480"/>
                <a:tab algn="l" pos="4051440"/>
                <a:tab algn="l" pos="4546440"/>
                <a:tab algn="l" pos="5054760"/>
                <a:tab algn="l" pos="5562720"/>
                <a:tab algn="l" pos="6070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40">
              <a:lnSpc>
                <a:spcPct val="100000"/>
              </a:lnSpc>
              <a:tabLst>
                <a:tab algn="l" pos="0"/>
                <a:tab algn="l" pos="507960"/>
                <a:tab algn="l" pos="1015920"/>
                <a:tab algn="l" pos="1511280"/>
                <a:tab algn="l" pos="2019240"/>
                <a:tab algn="l" pos="2527200"/>
                <a:tab algn="l" pos="3035160"/>
                <a:tab algn="l" pos="3543480"/>
                <a:tab algn="l" pos="4051440"/>
                <a:tab algn="l" pos="4546440"/>
                <a:tab algn="l" pos="5054760"/>
                <a:tab algn="l" pos="5562720"/>
                <a:tab algn="l" pos="6070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Courier New"/>
              </a:rPr>
              <a:t>#number of whi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40">
              <a:lnSpc>
                <a:spcPct val="100000"/>
              </a:lnSpc>
              <a:tabLst>
                <a:tab algn="l" pos="0"/>
                <a:tab algn="l" pos="507960"/>
                <a:tab algn="l" pos="1015920"/>
                <a:tab algn="l" pos="1511280"/>
                <a:tab algn="l" pos="2019240"/>
                <a:tab algn="l" pos="2527200"/>
                <a:tab algn="l" pos="3035160"/>
                <a:tab algn="l" pos="3543480"/>
                <a:tab algn="l" pos="4051440"/>
                <a:tab algn="l" pos="4546440"/>
                <a:tab algn="l" pos="5054760"/>
                <a:tab algn="l" pos="5562720"/>
                <a:tab algn="l" pos="6070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Courier New"/>
              </a:rPr>
              <a:t>w=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40">
              <a:lnSpc>
                <a:spcPct val="100000"/>
              </a:lnSpc>
              <a:tabLst>
                <a:tab algn="l" pos="0"/>
                <a:tab algn="l" pos="507960"/>
                <a:tab algn="l" pos="1015920"/>
                <a:tab algn="l" pos="1511280"/>
                <a:tab algn="l" pos="2019240"/>
                <a:tab algn="l" pos="2527200"/>
                <a:tab algn="l" pos="3035160"/>
                <a:tab algn="l" pos="3543480"/>
                <a:tab algn="l" pos="4051440"/>
                <a:tab algn="l" pos="4546440"/>
                <a:tab algn="l" pos="5054760"/>
                <a:tab algn="l" pos="5562720"/>
                <a:tab algn="l" pos="6070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Courier New"/>
              </a:rPr>
              <a:t>#number of dra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40">
              <a:lnSpc>
                <a:spcPct val="100000"/>
              </a:lnSpc>
              <a:tabLst>
                <a:tab algn="l" pos="0"/>
                <a:tab algn="l" pos="507960"/>
                <a:tab algn="l" pos="1015920"/>
                <a:tab algn="l" pos="1511280"/>
                <a:tab algn="l" pos="2019240"/>
                <a:tab algn="l" pos="2527200"/>
                <a:tab algn="l" pos="3035160"/>
                <a:tab algn="l" pos="3543480"/>
                <a:tab algn="l" pos="4051440"/>
                <a:tab algn="l" pos="4546440"/>
                <a:tab algn="l" pos="5054760"/>
                <a:tab algn="l" pos="5562720"/>
                <a:tab algn="l" pos="6070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Courier New"/>
              </a:rPr>
              <a:t>n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40">
              <a:lnSpc>
                <a:spcPct val="100000"/>
              </a:lnSpc>
              <a:tabLst>
                <a:tab algn="l" pos="0"/>
                <a:tab algn="l" pos="507960"/>
                <a:tab algn="l" pos="1015920"/>
                <a:tab algn="l" pos="1511280"/>
                <a:tab algn="l" pos="2019240"/>
                <a:tab algn="l" pos="2527200"/>
                <a:tab algn="l" pos="3035160"/>
                <a:tab algn="l" pos="3543480"/>
                <a:tab algn="l" pos="4051440"/>
                <a:tab algn="l" pos="4546440"/>
                <a:tab algn="l" pos="5054760"/>
                <a:tab algn="l" pos="5562720"/>
                <a:tab algn="l" pos="6070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Courier New"/>
              </a:rPr>
              <a:t>y=dbinom(x=w,size=n,prob=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40">
              <a:lnSpc>
                <a:spcPct val="100000"/>
              </a:lnSpc>
              <a:tabLst>
                <a:tab algn="l" pos="0"/>
                <a:tab algn="l" pos="507960"/>
                <a:tab algn="l" pos="1015920"/>
                <a:tab algn="l" pos="1511280"/>
                <a:tab algn="l" pos="2019240"/>
                <a:tab algn="l" pos="2527200"/>
                <a:tab algn="l" pos="3035160"/>
                <a:tab algn="l" pos="3543480"/>
                <a:tab algn="l" pos="4051440"/>
                <a:tab algn="l" pos="4546440"/>
                <a:tab algn="l" pos="5054760"/>
                <a:tab algn="l" pos="5562720"/>
                <a:tab algn="l" pos="6070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Courier New"/>
              </a:rPr>
              <a:t>plot(p,y,typ="l", lwd=2, col="blue",main="4 white on 10 draws"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40">
              <a:lnSpc>
                <a:spcPct val="100000"/>
              </a:lnSpc>
              <a:tabLst>
                <a:tab algn="l" pos="0"/>
                <a:tab algn="l" pos="507960"/>
                <a:tab algn="l" pos="1015920"/>
                <a:tab algn="l" pos="1511280"/>
                <a:tab algn="l" pos="2019240"/>
                <a:tab algn="l" pos="2527200"/>
                <a:tab algn="l" pos="3035160"/>
                <a:tab algn="l" pos="3543480"/>
                <a:tab algn="l" pos="4051440"/>
                <a:tab algn="l" pos="4546440"/>
                <a:tab algn="l" pos="5054760"/>
                <a:tab algn="l" pos="5562720"/>
                <a:tab algn="l" pos="6070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40">
              <a:lnSpc>
                <a:spcPct val="100000"/>
              </a:lnSpc>
              <a:tabLst>
                <a:tab algn="l" pos="0"/>
                <a:tab algn="l" pos="507960"/>
                <a:tab algn="l" pos="1015920"/>
                <a:tab algn="l" pos="1511280"/>
                <a:tab algn="l" pos="2019240"/>
                <a:tab algn="l" pos="2527200"/>
                <a:tab algn="l" pos="3035160"/>
                <a:tab algn="l" pos="3543480"/>
                <a:tab algn="l" pos="4051440"/>
                <a:tab algn="l" pos="4546440"/>
                <a:tab algn="l" pos="5054760"/>
                <a:tab algn="l" pos="5562720"/>
                <a:tab algn="l" pos="6070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Courier New"/>
              </a:rPr>
              <a:t>p1=5/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40">
              <a:lnSpc>
                <a:spcPct val="100000"/>
              </a:lnSpc>
              <a:tabLst>
                <a:tab algn="l" pos="0"/>
                <a:tab algn="l" pos="507960"/>
                <a:tab algn="l" pos="1015920"/>
                <a:tab algn="l" pos="1511280"/>
                <a:tab algn="l" pos="2019240"/>
                <a:tab algn="l" pos="2527200"/>
                <a:tab algn="l" pos="3035160"/>
                <a:tab algn="l" pos="3543480"/>
                <a:tab algn="l" pos="4051440"/>
                <a:tab algn="l" pos="4546440"/>
                <a:tab algn="l" pos="5054760"/>
                <a:tab algn="l" pos="5562720"/>
                <a:tab algn="l" pos="6070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Monaco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Courier New"/>
              </a:rPr>
              <a:t>Ltheta1=dbinom(x=w,size=n,prob=p1);Ltheta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40">
              <a:lnSpc>
                <a:spcPct val="100000"/>
              </a:lnSpc>
              <a:tabLst>
                <a:tab algn="l" pos="0"/>
                <a:tab algn="l" pos="507960"/>
                <a:tab algn="l" pos="1015920"/>
                <a:tab algn="l" pos="1511280"/>
                <a:tab algn="l" pos="2019240"/>
                <a:tab algn="l" pos="2527200"/>
                <a:tab algn="l" pos="3035160"/>
                <a:tab algn="l" pos="3543480"/>
                <a:tab algn="l" pos="4051440"/>
                <a:tab algn="l" pos="4546440"/>
                <a:tab algn="l" pos="5054760"/>
                <a:tab algn="l" pos="5562720"/>
                <a:tab algn="l" pos="6070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40">
              <a:lnSpc>
                <a:spcPct val="100000"/>
              </a:lnSpc>
              <a:tabLst>
                <a:tab algn="l" pos="0"/>
                <a:tab algn="l" pos="507960"/>
                <a:tab algn="l" pos="1015920"/>
                <a:tab algn="l" pos="1511280"/>
                <a:tab algn="l" pos="2019240"/>
                <a:tab algn="l" pos="2527200"/>
                <a:tab algn="l" pos="3035160"/>
                <a:tab algn="l" pos="3543480"/>
                <a:tab algn="l" pos="4051440"/>
                <a:tab algn="l" pos="4546440"/>
                <a:tab algn="l" pos="5054760"/>
                <a:tab algn="l" pos="5562720"/>
                <a:tab algn="l" pos="6070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Courier New"/>
              </a:rPr>
              <a:t>p2=1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40">
              <a:lnSpc>
                <a:spcPct val="100000"/>
              </a:lnSpc>
              <a:tabLst>
                <a:tab algn="l" pos="0"/>
                <a:tab algn="l" pos="507960"/>
                <a:tab algn="l" pos="1015920"/>
                <a:tab algn="l" pos="1511280"/>
                <a:tab algn="l" pos="2019240"/>
                <a:tab algn="l" pos="2527200"/>
                <a:tab algn="l" pos="3035160"/>
                <a:tab algn="l" pos="3543480"/>
                <a:tab algn="l" pos="4051440"/>
                <a:tab algn="l" pos="4546440"/>
                <a:tab algn="l" pos="5054760"/>
                <a:tab algn="l" pos="5562720"/>
                <a:tab algn="l" pos="6070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Monaco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Courier New"/>
              </a:rPr>
              <a:t>Ltheta2=dbinom(x=w,size=n,prob=p2);Ltheta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40">
              <a:lnSpc>
                <a:spcPct val="100000"/>
              </a:lnSpc>
              <a:tabLst>
                <a:tab algn="l" pos="0"/>
                <a:tab algn="l" pos="507960"/>
                <a:tab algn="l" pos="1015920"/>
                <a:tab algn="l" pos="1511280"/>
                <a:tab algn="l" pos="2019240"/>
                <a:tab algn="l" pos="2527200"/>
                <a:tab algn="l" pos="3035160"/>
                <a:tab algn="l" pos="3543480"/>
                <a:tab algn="l" pos="4051440"/>
                <a:tab algn="l" pos="4546440"/>
                <a:tab algn="l" pos="5054760"/>
                <a:tab algn="l" pos="5562720"/>
                <a:tab algn="l" pos="6070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40">
              <a:lnSpc>
                <a:spcPct val="100000"/>
              </a:lnSpc>
              <a:tabLst>
                <a:tab algn="l" pos="0"/>
                <a:tab algn="l" pos="507960"/>
                <a:tab algn="l" pos="1015920"/>
                <a:tab algn="l" pos="1511280"/>
                <a:tab algn="l" pos="2019240"/>
                <a:tab algn="l" pos="2527200"/>
                <a:tab algn="l" pos="3035160"/>
                <a:tab algn="l" pos="3543480"/>
                <a:tab algn="l" pos="4051440"/>
                <a:tab algn="l" pos="4546440"/>
                <a:tab algn="l" pos="5054760"/>
                <a:tab algn="l" pos="5562720"/>
                <a:tab algn="l" pos="6070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Courier New"/>
              </a:rPr>
              <a:t>p3=1/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40">
              <a:lnSpc>
                <a:spcPct val="100000"/>
              </a:lnSpc>
              <a:tabLst>
                <a:tab algn="l" pos="0"/>
                <a:tab algn="l" pos="507960"/>
                <a:tab algn="l" pos="1015920"/>
                <a:tab algn="l" pos="1511280"/>
                <a:tab algn="l" pos="2019240"/>
                <a:tab algn="l" pos="2527200"/>
                <a:tab algn="l" pos="3035160"/>
                <a:tab algn="l" pos="3543480"/>
                <a:tab algn="l" pos="4051440"/>
                <a:tab algn="l" pos="4546440"/>
                <a:tab algn="l" pos="5054760"/>
                <a:tab algn="l" pos="5562720"/>
                <a:tab algn="l" pos="6070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Monaco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Courier New"/>
              </a:rPr>
              <a:t>Ltheta3=dbinom(x=w,size=n,prob=p3);Ltheta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40">
              <a:lnSpc>
                <a:spcPct val="100000"/>
              </a:lnSpc>
              <a:tabLst>
                <a:tab algn="l" pos="0"/>
                <a:tab algn="l" pos="507960"/>
                <a:tab algn="l" pos="1015920"/>
                <a:tab algn="l" pos="1511280"/>
                <a:tab algn="l" pos="2019240"/>
                <a:tab algn="l" pos="2527200"/>
                <a:tab algn="l" pos="3035160"/>
                <a:tab algn="l" pos="3543480"/>
                <a:tab algn="l" pos="4051440"/>
                <a:tab algn="l" pos="4546440"/>
                <a:tab algn="l" pos="5054760"/>
                <a:tab algn="l" pos="5562720"/>
                <a:tab algn="l" pos="6070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40">
              <a:lnSpc>
                <a:spcPct val="100000"/>
              </a:lnSpc>
              <a:tabLst>
                <a:tab algn="l" pos="0"/>
                <a:tab algn="l" pos="507960"/>
                <a:tab algn="l" pos="1015920"/>
                <a:tab algn="l" pos="1511280"/>
                <a:tab algn="l" pos="2019240"/>
                <a:tab algn="l" pos="2527200"/>
                <a:tab algn="l" pos="3035160"/>
                <a:tab algn="l" pos="3543480"/>
                <a:tab algn="l" pos="4051440"/>
                <a:tab algn="l" pos="4546440"/>
                <a:tab algn="l" pos="5054760"/>
                <a:tab algn="l" pos="5562720"/>
                <a:tab algn="l" pos="6070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muriarte</cp:lastModifiedBy>
  <dcterms:modified xsi:type="dcterms:W3CDTF">2015-09-16T13:13:18Z</dcterms:modified>
  <cp:revision>4</cp:revision>
  <dc:subject/>
  <dc:title>Slide 1</dc:title>
</cp:coreProperties>
</file>